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842-7841-451D-953B-18BCD441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B32-2193-4CFE-BA99-699B35EC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FAF-DA3D-481B-B4E3-18643C57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FC1-761D-4E71-B90D-29AF2F68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CCB9-929B-4C00-8E44-B9975448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C0B5-AA04-4CE9-B486-0BC8BE47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A78B-E14A-4F58-A6E0-AE126987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2961-DBE1-44D7-9BF4-863A6C7D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8DDF-5C90-4F9C-999A-F22BBD23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51B0-0C69-404C-B775-7E2645A7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8FEB-C4FB-4A4C-A3A7-106456E0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022-65DD-4B37-B7CD-2726FE63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7DD0-8639-4D2E-9CD9-91F1D3B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9D59-599B-4528-BF99-47982735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6D78-DF4B-4EDD-A679-082958DE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7345-54CD-4BDE-911C-09C2A9DF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D4FC-B5BD-432A-81E3-377B2BEE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4D949-A107-403A-B9B1-EB226BBD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6DF6-BEAB-4523-8A5F-9962D227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00D6-3851-4949-8D6C-8C1037C9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8DD51-CF6D-4747-868E-106116F8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906F-A62C-439F-870F-E816088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5B5-B455-4CA6-865D-68F6E833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CDA3-CB2F-4BBF-8A31-F2D469DF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A629-E9B2-4591-869F-5B0ED8D7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818AC-EA57-46C7-95E3-85CF56D5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DFBC-93B1-4861-82BD-D4C38577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11D0-4E81-4937-A6FD-DB340B0E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1AE0-25DB-412E-B7F1-78EDB9C0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1934-93B9-4F6C-8E88-98A3033A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88A05-4640-4A73-9B75-85E2A750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984F-3DD6-4D5E-933F-952E76FC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DF6D-0346-4926-B539-F96FDEDE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264-2EC7-4AF8-AA1C-C333247B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BBD33-ECD8-466B-B377-FD1A71F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D36C1-79EA-407A-8508-25DB0621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D1716-0826-42BA-BF5D-A0A2822A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65B58-1F55-42D4-81FC-1DBEEB6C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E45AD-2273-4E6D-976C-DD054632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5C008-0E08-4F54-B5A1-95660073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666E-003F-4995-92DC-90F0138D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4223-A838-4E00-A202-4CDB9C45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2FD3-B6EF-4630-93A4-C98BA780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E7E-B71B-4913-A2E2-219DFBD8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E9F3-3F18-41E9-8BF3-19861C5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DBB-8318-47A3-A90B-28C726A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706-1339-47F3-895A-7EDAADF7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BE1-7D2C-4C3F-85BC-4A7481D5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BF81-814D-4C07-9A52-B519D5C911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F5BA-4219-42DA-8015-5B245B5A123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5D00-D261-44FF-8F8C-0F8902C88D0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DB07-620A-4852-95A5-60A29B77EE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arl’s baseball team had 9 players.  Carl scored in each of the 3 games played during 1 week.  The highest number of runs that Carl scored in a game was 4 runs.  The least number of runs that he scored in a game was 1 run.  The games always started at 7:00 P.M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n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each player on the team scores 2 runs, what will be the total number of runs scor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ue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is a reasonable total of runs that Carl scored in the 3 gam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dne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94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the first game lasted 2 hours, what time did it en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ur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4 of the players scored runs, how many players di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scor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i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Carl got to the game 45 minutes before it started, what time did he arriv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12:32:59Z</dcterms:created>
  <dc:creator>127partidak</dc:creator>
  <dc:description/>
  <dc:language>en-US</dc:language>
  <cp:lastModifiedBy>127partidak</cp:lastModifiedBy>
  <dcterms:modified xsi:type="dcterms:W3CDTF">2011-08-30T21:27:26Z</dcterms:modified>
  <cp:revision>2</cp:revision>
  <dc:subject/>
  <dc:title>Information</dc:title>
</cp:coreProperties>
</file>